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706-8208-4C46-A78E-F1F0D169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661-155A-4E03-B0CA-1A745636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62F-B660-4367-BF14-8AA80A04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106-D21E-45D3-BBC7-EE117A23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D55-DE8F-4047-AB46-F53BF139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113-9A1A-4B30-8F14-43B3745E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86B-1F67-4D45-B68D-E82A1519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541-F342-47D3-BD3F-8656A2AB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894-85BE-4FAA-89C3-600CE189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CCE-0DE8-4B50-9E95-5A12E8C3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B3D-D1BA-4631-8600-0993CE04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999-DB96-4B57-B4FF-D6900C20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2BC2-3861-4B21-9B31-E3B1CE6A6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enzymes in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+</a:t>
            </a:r>
            <a:br>
              <a:rPr sz="44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mage from: http://en.wikipedia.org/wiki/File:NAD%2B_phys.sv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+ nicotinamide adenine dinucleotide is a coenzyme found in all liv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derivative of vitami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iac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respiration i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du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the transfer of H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38640" y="1981080"/>
            <a:ext cx="282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 of NAD+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ikispaces.psu.edu/download/attachments/46695631/NAD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01600" y="1981080"/>
            <a:ext cx="694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andwalk.blogspot.com/2007/04/riboflavin-vitamin-b2-fmn-and-fa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D (flavin adenine dinucleotide) is a coenzyme involved in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derivative of vitami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iboflav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lso reduced during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8320" y="2058840"/>
            <a:ext cx="38098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 of FAD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cbi.nlm.nih.gov/books/NBK22398/?rendertype=figure&amp;id=A19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2981160"/>
            <a:ext cx="77724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21:15:49Z</dcterms:created>
  <dc:creator>rubina khan</dc:creator>
  <dc:description/>
  <dc:language>en-US</dc:language>
  <cp:lastModifiedBy>rubina khan</cp:lastModifiedBy>
  <dcterms:modified xsi:type="dcterms:W3CDTF">2011-10-14T17:40:38Z</dcterms:modified>
  <cp:revision>24</cp:revision>
  <dc:subject/>
  <dc:title>PowerPoint Presentation</dc:title>
</cp:coreProperties>
</file>